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720-671A-47D9-A2BF-C4F0048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48C-678F-4EDD-A371-9ABCD92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048-E969-42D5-B898-7FF0D45F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3EB-0157-4C61-BBB3-69D0794C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81F3-EDD6-4F93-8C30-51808729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271-160C-48F5-ACBF-4F2014BE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84AE-F827-4FA1-B72C-7AB5A9D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DD6-4038-40B8-993B-49213C8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2636-A7BF-4B17-8998-30BEFE5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C061-5A8B-4308-86A9-EB3B90A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FF5F-47A0-434E-9EF6-978F7C7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575-6B3E-4314-B65C-F824724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7D2A-4494-49EB-9415-9EE791C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AC1-5EDC-49AA-BDAC-92E7D7A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CE2-E184-4F3D-9C94-AE1E55C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8934-F3DC-495F-8C6E-DFABA0D3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72C-9D6A-4CFB-BB47-E19F34A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475-8D22-447C-AF4E-C379747F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08E-3696-499E-AA83-5680B86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A71-8C00-4624-A148-3637206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3F9-F08A-4084-8426-1A20CA0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8E8-1EB5-42B4-BB3E-0A9611A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635-6669-4EF2-A15F-31DCF4B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676-B0F9-4088-8FB4-48C4A3E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EA5-16BF-49B6-ADFD-74BC36235EF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9D3A-FA8F-4EBA-82F1-B3488FE5AD6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7Z</dcterms:modified>
  <cp:revision>44</cp:revision>
  <dc:subject/>
  <dc:title>幻灯片 1</dc:title>
</cp:coreProperties>
</file>